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48F-F78B-4C99-A043-FEF05EDF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D7F-7D5E-41F5-B4F9-3E99F30E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1C6-BB80-4371-B0F9-B7DB1027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8A4-7ADF-4A2F-9CB7-821E264F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234B-29CF-490D-8E15-5C482940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05C4-079D-4166-9734-A85167D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D4F2-34ED-4CDB-8C42-6A317881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99D-CAA2-4E6C-ADAA-5C183A14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62B5-6805-4693-81FA-79D804DC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43C8-A99C-480B-8D22-CB5F86DA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EABE-5970-47C8-BF50-EA5C6D5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F0B-135A-4B25-98A6-CF6B9A32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9E6E-CB1F-4A06-9B1A-A07ED01A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E5E6-A6D0-416E-9A54-BCA8357F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0B65-4029-47B6-BDD4-7A8C22B7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034F-479A-4DBE-9A52-53AF20D7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7F6A-115D-4C89-96D1-76A9D952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E86-7B29-4C4A-86D7-076FB93B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E87-4BF6-4F19-84E9-571B6172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BCA-7AC5-487D-B9A1-21C65967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76F-9D8E-489B-A0ED-3E865588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CA1-AF5B-414F-9850-B59CF7BC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A8D-72AA-4EE7-9882-3B30F8F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849-3469-40D9-A5FA-BA6FE823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A3F8-E2EF-469E-A38D-1DC0D276313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B00E-5C2A-4B76-9A0D-28A4D3DEBFF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848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cc"/>
                </a:solidFill>
                <a:latin typeface="Arial"/>
              </a:rPr>
              <a:t>Me llamo _________    Clase 6NH (602)</a:t>
            </a:r>
            <a:br>
              <a:rPr sz="3200"/>
            </a:br>
            <a:r>
              <a:rPr b="0" lang="en-US" sz="3200" spc="-1" strike="noStrike">
                <a:solidFill>
                  <a:srgbClr val="99cccc"/>
                </a:solidFill>
                <a:latin typeface="Arial"/>
              </a:rPr>
              <a:t>La fecha es el 14 de noviembre del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Propósito # 17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A qué hora vas a la clas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pleta con la palabra interrogativa correc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estudias en la escue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es tu curso favori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es tu profesora de cienc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alumnos hay en tu cla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es tu examen? </a:t>
            </a:r>
            <a:r>
              <a:rPr b="0" i="1" lang="es-ES_tradnl" sz="3000" spc="-1" strike="noStrike">
                <a:solidFill>
                  <a:srgbClr val="000000"/>
                </a:solidFill>
                <a:latin typeface="Arial"/>
              </a:rPr>
              <a:t>(viern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hora responde las pregun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Los verbos </a:t>
            </a: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ir, dar, est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i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to go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d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to give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st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to be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conjugated in the same way as regula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–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erbs EXCEPT for the Y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, how do we conjugate these verb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66680" y="3340080"/>
          <a:ext cx="7696080" cy="3517920"/>
        </p:xfrm>
        <a:graphic>
          <a:graphicData uri="http://schemas.openxmlformats.org/drawingml/2006/table">
            <a:tbl>
              <a:tblPr/>
              <a:tblGrid>
                <a:gridCol w="2438280"/>
                <a:gridCol w="1600200"/>
                <a:gridCol w="1733400"/>
                <a:gridCol w="19242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Ir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ar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star 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.ella.Ud.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.ellas.Uds.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964680" y="3886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o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5040" y="4419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100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4480" y="5486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am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4680" y="6095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38862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o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40840" y="4419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68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2240" y="5486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am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40480" y="6095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3680" y="38862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o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4400" y="4419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7000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5800" y="54864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am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03040" y="60958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á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la oración con la forma correcta del ver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éctor ______ a casa después de la escuela. </a:t>
            </a:r>
            <a:r>
              <a:rPr b="1" lang="es-ES_tradnl" sz="2400" spc="-1" strike="noStrike">
                <a:solidFill>
                  <a:srgbClr val="cc0066"/>
                </a:solidFill>
                <a:latin typeface="Arial"/>
              </a:rPr>
              <a:t>(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maestros ________ exámenes una vez a la semana. </a:t>
            </a: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(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ú _________ muy cansada.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(es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ina y Gloria _______ a la playa en el verano. </a:t>
            </a:r>
            <a:r>
              <a:rPr b="1" lang="es-ES_tradnl" sz="2400" spc="-1" strike="noStrike">
                <a:solidFill>
                  <a:srgbClr val="cc0066"/>
                </a:solidFill>
                <a:latin typeface="Arial"/>
              </a:rPr>
              <a:t>(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r. Roa, ¿______ Ud. mucha tarea? </a:t>
            </a: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(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men y yo __________ estudiando portugués.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(es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 al museo todos los meses. </a:t>
            </a:r>
            <a:r>
              <a:rPr b="1" lang="es-ES_tradnl" sz="2400" spc="-1" strike="noStrike">
                <a:solidFill>
                  <a:srgbClr val="cc0066"/>
                </a:solidFill>
                <a:latin typeface="Arial"/>
              </a:rPr>
              <a:t>(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Rosa ___________ muchos problemas en la clase! </a:t>
            </a: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(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lumnos _____________ muy felices porque no hay clases mañana.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(es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_________ tú a la fiesta el viernes? </a:t>
            </a:r>
            <a:r>
              <a:rPr b="1" lang="es-ES_tradnl" sz="2400" spc="-1" strike="noStrike">
                <a:solidFill>
                  <a:srgbClr val="cc0066"/>
                </a:solidFill>
                <a:latin typeface="Arial"/>
              </a:rPr>
              <a:t>(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istorieta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. R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istorieta 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. R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a p. R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3352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Tarea # 17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4:19:11Z</dcterms:created>
  <dc:creator>Helen Zumaeta</dc:creator>
  <dc:description/>
  <dc:language>en-US</dc:language>
  <cp:lastModifiedBy>Helen Zumaeta</cp:lastModifiedBy>
  <dcterms:modified xsi:type="dcterms:W3CDTF">2012-11-28T21:41:39Z</dcterms:modified>
  <cp:revision>9</cp:revision>
  <dc:subject/>
  <dc:title>Me llamo ______       Clase 6NH La fecha es el 7 de marzo del 2012</dc:title>
</cp:coreProperties>
</file>